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724-44B8-433A-9BB6-3AD34EDF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F06-D477-408E-972C-B47C2999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52A-1BBF-468A-85BA-20F68C4D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747-F05D-4BA5-8EAD-222151C8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059-C926-48B7-98CB-265B6834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2AC-BFF9-4FB3-9E3C-5BD9225D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EB0-8BF5-4AD6-9061-CFE56C12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BDE-EDE3-4202-988B-DA223376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887-D4F4-4796-8CC1-0B8377BA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46F-042B-423E-B0AB-602C3016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094-D3C4-4578-A3C2-689D3CA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FD9-CFEF-4508-BB80-A13DB235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AE1D-AA1F-49C4-A28A-AA53BDD5A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5624" t="35418" r="46876" b="30212"/>
          <a:stretch/>
        </p:blipFill>
        <p:spPr>
          <a:xfrm>
            <a:off x="1752480" y="1752480"/>
            <a:ext cx="5486400" cy="3772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1850400" y="91440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CREDIT CARDS WORK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15624" t="35418" r="46876" b="30212"/>
          <a:stretch/>
        </p:blipFill>
        <p:spPr>
          <a:xfrm>
            <a:off x="0" y="0"/>
            <a:ext cx="2112840" cy="1452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d kredit merupak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atu kaedah pembayaran yang membolehkan anda membeli barang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au mendapatkan perkhidmatan tanpa menggunakan wang tunai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abila anda menggunakan kredit kad, pengeluar kad kredit akan membayar kepada peniaga terlebih dahulu bagi pihak anda dan kemudiannya meminta bayaran daripada anda dalam bentuk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penyata bulan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2285280" y="38088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CREDIT CARDS WORK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ad Kredit juga di kenali sebagai “Plastic Money” tapi dalam bentuk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hutang atau Kredi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ngguna perlu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memohon kepada sesebuah bank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ngeluar untuk memiliki Kad Kred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Kelulusan bank adalah bergantung kepada pendapata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ngguna sebulan, liabiliti pengguna dan sudah tentu kemampuan pengguna untuk membayar balik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mandangkan Kad Kredit adalah Kad Hutang maka setiap kad diberi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Had Limit tertentu atau Had Penggunaa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15624" t="35418" r="46876" b="30212"/>
          <a:stretch/>
        </p:blipFill>
        <p:spPr>
          <a:xfrm>
            <a:off x="0" y="0"/>
            <a:ext cx="2112840" cy="1452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50" name="TextBox 6"/>
          <p:cNvSpPr/>
          <p:nvPr/>
        </p:nvSpPr>
        <p:spPr>
          <a:xfrm>
            <a:off x="2285280" y="38088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CREDIT CARDS WORK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tiap penggunaan dari Kad Kredit akan dikenakan interes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ra pengiraan interest adalah berdasarkan Kadar Interest Berkal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(periodic interest rate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ke atas baki akaun penggun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adar berkala di kira dengan membahagikan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nual Percentage Rate (APR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ngan jumlah bilangan bil setahun, pada kebiasaannya 12 bula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adi untuk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P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18% ditukar kepada kadar bertempoh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(Period rate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dalah 1.5%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15624" t="35418" r="46876" b="30212"/>
          <a:stretch/>
        </p:blipFill>
        <p:spPr>
          <a:xfrm>
            <a:off x="0" y="0"/>
            <a:ext cx="2112840" cy="1452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54" name="TextBox 6"/>
          <p:cNvSpPr/>
          <p:nvPr/>
        </p:nvSpPr>
        <p:spPr>
          <a:xfrm>
            <a:off x="2285280" y="38088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CREDIT CARDS WORK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1828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bih mudah,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Setiap penggunaan kad pengguna akan dikenakan interest biasanya pada kadar 1.5 % sebula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au 18% setahun (1.5% x 12 bulan) keatas baki akaun pengguna dalam satu-satu bul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di,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sekiranya pengguna membayar penuh terhadap jumla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ang telah digunakan dalam bulan itu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maka tiada caj atau interest di kenak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etapi  sekiranya pengguna hanya membayar jumlah minimum daripada jumlah penggunaan, maka jumlah baki yang tidak dilangsaikan akan di kenakan intere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Sekiranya pengguna hanya membayar jumlah minium setiap bula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dah tentula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berganda-ganda interest yang perlu dibaya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pada pihak bank setiap bul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nya akan berterusan dari bulan kebulan, tahun ke tahun bahkan ada yang dah pencen hutang kredit kad pun belum habis baya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5624" t="35418" r="46876" b="30212"/>
          <a:stretch/>
        </p:blipFill>
        <p:spPr>
          <a:xfrm>
            <a:off x="0" y="0"/>
            <a:ext cx="2112840" cy="1452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58" name="TextBox 6"/>
          <p:cNvSpPr/>
          <p:nvPr/>
        </p:nvSpPr>
        <p:spPr>
          <a:xfrm>
            <a:off x="2285280" y="38088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CREDIT CARDS WORK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8:23:38Z</dcterms:created>
  <dc:creator>emah</dc:creator>
  <dc:description/>
  <dc:language>en-US</dc:language>
  <cp:lastModifiedBy>emah</cp:lastModifiedBy>
  <dcterms:modified xsi:type="dcterms:W3CDTF">2010-08-17T08:51:10Z</dcterms:modified>
  <cp:revision>6</cp:revision>
  <dc:subject/>
  <dc:title>Slide 1</dc:title>
</cp:coreProperties>
</file>